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jpeg" ContentType="image/jpeg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9CCB-F254-42C9-9562-E9D2D01A9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7316-C68A-4D70-80BB-133B70696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465A-AF12-4080-9142-0B7D555EB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9565-F4E3-46FB-8A60-B19F48B37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4EC8-674C-4615-8F4B-B52FA6FD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6BC9-3465-498E-B9D7-69A52323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1488-0C35-4730-9F1E-AB249259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CC77-AAD3-4623-9F47-32C9A014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CB43-7B10-47F7-9157-A4358625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F0B2-D717-4D84-B0B2-BEBE08D0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A90C-A2A8-4FCA-A59D-BAD8D359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49C2-8EB8-4144-88A5-82898CCC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FFE9-F3E7-4749-855E-3ABA6BF0B3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836640"/>
            <a:ext cx="828036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411280" y="981000"/>
            <a:ext cx="43927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777777">
                      <a:alpha val="50000"/>
                    </a:srgbClr>
                  </a:outerShdw>
                </a:effectLst>
                <a:latin typeface="华文新魏"/>
              </a:rPr>
              <a:t>口 哨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777777">
                    <a:alpha val="5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059280" y="3068640"/>
            <a:ext cx="2808000" cy="113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张 海 迪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8360" y="549360"/>
            <a:ext cx="49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9900ff"/>
                </a:solidFill>
                <a:latin typeface="Arial"/>
                <a:ea typeface="隶书"/>
              </a:rPr>
              <a:t>读读想想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206064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ff"/>
                </a:solidFill>
                <a:latin typeface="Arial"/>
                <a:ea typeface="华文新魏"/>
              </a:rPr>
              <a:t>课文讲述了什么内容？</a:t>
            </a:r>
            <a:r>
              <a:rPr b="0" lang="zh-CN" sz="1800" spc="-1" strike="noStrike">
                <a:solidFill>
                  <a:srgbClr val="99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549360"/>
            <a:ext cx="87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全文以“吹口哨”为线索，写了一个瘫痪在床的小女孩恳求妈妈教自己吹口哨，她以口哨排遣内心的孤寂，找到了快乐，学会了以积极乐观的态度面对病痛，面对生活中的困难、挫折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549360"/>
            <a:ext cx="4400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ff"/>
                </a:solidFill>
                <a:latin typeface="Times New Roman"/>
                <a:ea typeface="隶书"/>
              </a:rPr>
              <a:t>读读品品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2060640"/>
            <a:ext cx="727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华文新魏"/>
              </a:rPr>
              <a:t>“</a:t>
            </a: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华文新魏"/>
              </a:rPr>
              <a:t>我”为什么选择吹口哨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31040" y="0"/>
            <a:ext cx="18129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5280" y="620640"/>
            <a:ext cx="8280360" cy="44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00ff"/>
                </a:solidFill>
                <a:latin typeface="Times New Roman"/>
                <a:ea typeface="隶书"/>
              </a:rPr>
              <a:t>读读议议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9933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ff"/>
                </a:solidFill>
                <a:latin typeface="华文新魏"/>
                <a:ea typeface="华文新魏"/>
              </a:rPr>
              <a:t>学会吹口哨后，“我”有什么变化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ff"/>
                </a:solidFill>
                <a:latin typeface="Arial"/>
                <a:ea typeface="华文新魏"/>
              </a:rPr>
              <a:t>你从文中哪些地方可以看出“我”的变化？（圈划出相关词句，谈谈自己的理解）</a:t>
            </a:r>
            <a:r>
              <a:rPr b="0" lang="zh-CN" sz="4000" spc="-1" strike="noStrike">
                <a:solidFill>
                  <a:srgbClr val="9933ff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242100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ff"/>
                </a:solidFill>
                <a:latin typeface="华文新魏"/>
                <a:ea typeface="华文新魏"/>
              </a:rPr>
              <a:t>    </a:t>
            </a:r>
            <a:r>
              <a:rPr b="1" lang="zh-CN" sz="4000" spc="-1" strike="noStrike">
                <a:solidFill>
                  <a:srgbClr val="9900ff"/>
                </a:solidFill>
                <a:latin typeface="华文新魏"/>
                <a:ea typeface="华文新魏"/>
              </a:rPr>
              <a:t>30</a:t>
            </a:r>
            <a:r>
              <a:rPr b="1" lang="zh-CN" sz="4000" spc="-1" strike="noStrike">
                <a:solidFill>
                  <a:srgbClr val="9900ff"/>
                </a:solidFill>
                <a:latin typeface="华文新魏"/>
                <a:ea typeface="华文新魏"/>
              </a:rPr>
              <a:t>多年过去了为什么当“我又一次躺在病床上时”，又“很想吹口哨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4360" y="692280"/>
            <a:ext cx="439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读读悟悟：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26920" y="2133720"/>
            <a:ext cx="741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ff"/>
                </a:solidFill>
                <a:latin typeface="华文新魏"/>
                <a:ea typeface="华文新魏"/>
              </a:rPr>
              <a:t>作为少女海迪的同龄人，学习了这篇课文后同学们有什么想说的话吗</a:t>
            </a:r>
            <a:r>
              <a:rPr b="0" lang="zh-CN" sz="4000" spc="-1" strike="noStrike">
                <a:solidFill>
                  <a:srgbClr val="9900ff"/>
                </a:solidFill>
                <a:latin typeface="华文新魏"/>
                <a:ea typeface="华文新魏"/>
              </a:rPr>
              <a:t>?</a:t>
            </a:r>
            <a:r>
              <a:rPr b="0" lang="zh-CN" sz="4000" spc="-1" strike="noStrike">
                <a:solidFill>
                  <a:srgbClr val="9900ff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564000" y="404640"/>
            <a:ext cx="5003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隶书"/>
              </a:rPr>
              <a:t>各抒己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476280"/>
            <a:ext cx="536400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宋体"/>
              </a:rPr>
              <a:t>张海迪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80008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800080"/>
                </a:solidFill>
                <a:latin typeface="宋体"/>
              </a:rPr>
              <a:t>岁的时候，被发现患有脊髓血管瘤，病情最终造成高位截瘫，胸部以下全都失去了知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800080"/>
                </a:solidFill>
                <a:latin typeface="宋体"/>
              </a:rPr>
              <a:t>十岁以前，已经动过三次大手术。也是在那个时候，她知道自己彻底失去了站起来的可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800080"/>
                </a:solidFill>
                <a:latin typeface="宋体"/>
              </a:rPr>
              <a:t>但她仍以顽强的毅力克服疾病</a:t>
            </a:r>
            <a:r>
              <a:rPr b="1" lang="zh-CN" sz="2800" spc="-1" strike="noStrike">
                <a:solidFill>
                  <a:srgbClr val="80008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800080"/>
                </a:solidFill>
                <a:latin typeface="宋体"/>
              </a:rPr>
              <a:t>自学成才，走上了文学创作的道路，成为一位成功的作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462640" y="0"/>
            <a:ext cx="36813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68360" y="620640"/>
            <a:ext cx="41749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海迪的话：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263700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躺在病床上千百次的想，医生或者护士讲，海迪你妈妈就要来接你了，这时候想的是妈妈来接我的时候，我又牵着她的手跟她一起走回家多好啊，这是梦想，这是一个孩子的必然的梦想。 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912000" y="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 </dc:creator>
  <dc:description/>
  <dc:language>en-US</dc:language>
  <cp:lastModifiedBy>USER</cp:lastModifiedBy>
  <dcterms:modified xsi:type="dcterms:W3CDTF">2015-08-04T23:05:41Z</dcterms:modified>
  <cp:revision>0</cp:revision>
  <dc:subject> 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